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556-DC27-4C15-9617-705C1C08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2C0-6C49-4E75-91E7-5B5963D0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822-8C1F-49C3-B413-5C0B397B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98F-B488-4B46-A84F-9F7033FF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18B-AC52-4482-8D67-668777B3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471-7BD1-45BE-A6C4-1109F33C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B59-6D3C-4509-A77D-0631B0C9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A9B-BC82-44F0-BE4C-F0AC66D4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882-AF05-4990-B871-9C04F453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29C-2A18-4128-85C6-51EB618C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100-A060-4A89-80D0-40F22962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6C9-8BEB-45A8-9735-645CCDEC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59F3-0FA4-4CD5-A162-599625E3F8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89960" cy="86364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27160" y="1989000"/>
            <a:ext cx="8689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ستنفرنا الإمام للجه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هجم الكفارعلى بل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لتقى الصفان وتقابل الزحف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27160" y="394956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في الجهاد في سبيل الله خير كثير  ل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140360" y="981000"/>
            <a:ext cx="4546440" cy="52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1055520" y="3238560"/>
            <a:ext cx="785988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1600" y="1557360"/>
            <a:ext cx="869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علاء كل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صر المظلومين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دّ العدوان وحفظ الإسلا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49"/>
          <a:stretch/>
        </p:blipFill>
        <p:spPr>
          <a:xfrm>
            <a:off x="250920" y="907920"/>
            <a:ext cx="8642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1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23920" y="981000"/>
            <a:ext cx="8696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738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2116080"/>
            <a:ext cx="8642160" cy="44816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50920" y="41083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عسر واليس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50920" y="45752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سفراً قريب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013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جهاد والقت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5468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عتذر عن الخرو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8510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2400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تحي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جهاد مرتبط بإذن 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م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خلف عن الجهاد الواجب والاعتذار بأعذار كاذبة علامة من علام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278136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تب الله رسوله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إذنه لمن استأذنه في القعود قبل أن يتبين الصادق منهم في عذره من الكاذب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بشر لا يعلم الغيب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إعلام الله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365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مبادرة إلى الأعمال الصالح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94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عظم الأعمال الصالح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51664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ط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3262320" y="2708280"/>
            <a:ext cx="2822400" cy="54144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08000" y="602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يرة والترد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8440" y="1125360"/>
            <a:ext cx="8545680" cy="7192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صفات المؤمنين المبادرة إلى الأعمال الصالحة والبعد عن التردد والح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0T19:38:18Z</dcterms:modified>
  <cp:revision>1811</cp:revision>
  <dc:subject/>
  <dc:title>عرض تقديمي في PowerPoint</dc:title>
</cp:coreProperties>
</file>